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CDB-7EF5-4E50-9B14-3E1CDC66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F62-005A-42FC-901B-BF2D05B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9DB-D96C-40B2-9061-4937B74F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0C7-9B80-4786-B2D0-4A127123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190D-5137-4FF4-86C5-DEBAF123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7640-7BC8-48D4-9132-7D8057B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EF4-60B8-4D37-871A-9ED7D35F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953E-0615-4894-A312-7FC46DE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8D5C-6A76-49A6-BCC9-C80531B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20F-1A6F-4D46-B3ED-490CA80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E14-0F6B-48D6-B484-0916BDFD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C97-BD62-43CD-B896-1B84F542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EEE-ACBD-4D7B-A6C3-AE2201A7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C54-5FE7-446C-88A2-5AFDD2F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89A6-B5A7-4EDA-A76D-CFBC2F3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5E9-F940-4598-A3ED-643874F1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4485-4DB1-4E29-AA61-5D01CAB5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01C-8E99-4405-A338-BF6F21F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ADB-D444-40D3-B771-03058E6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87F-27D1-40E6-9C7D-EF5DE7A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20E-C8C1-4389-B2E3-46F61C1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E74-773A-43A5-847A-6FD42BB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478-BDE5-4739-B55C-833718B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C24-5B50-423E-ADF0-E15A23D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C89D-3A75-4BDC-AE63-F9D52E548FD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07E7-6B47-489B-B797-46F5033C82F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rategija razvoja mladih u Republici Srbij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istent dr sc. med. Nataša Ranči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ma zakonskoj regulativi Republike Srbije, mladi uzrasta od 10 do 26 godina čine ciljnu grupaciju kojoj je Strategija namenjena, uz uvažavanje specifičnosti vezanih za dobne intervale, odnosno razvojne period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sebno se misli na dve grupacije populacije i to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) mlade do navršenih 18 godina života, odnosno do završetka srednješkolskog obrazovanja 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) mlade od 19 i više godi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vike i način života koji se stiču u mladosti dalekosežno utiču na razvoj, zdravlje i celokupan život odrasle osob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EMOGRAFSKI PODA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447560"/>
            <a:ext cx="7386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ema rezultatima popisa stanovništva sprovedenog 2002. godine, u Republici Srbiji (bez podataka za AP Kosovo i Metohija) ima ukupno oko 7,5 miliona stanovnik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sečna starost stanovnika iznosi 40,2 godin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deks starosti u Republici Srbiji u 1991. godini iznosio je 0,51, a u 2002. godini 1,00, što ukazuje na činjenicu da se starenje stanovništva u Republici Srbiji i dalje nastavlj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čekivano trajanje života je 2002. godine u Republici Srbiji iznosilo za osobe ženskog pola 75, a za muškarce 69,7 godin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2f1311"/>
                </a:solidFill>
                <a:latin typeface="Arial"/>
              </a:rPr>
              <a:t>U strukturi stanovništva prema uzrastu takođe se zapaža dalje pomeranje prema starijim godištim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2f1311"/>
                </a:solidFill>
                <a:latin typeface="Arial"/>
              </a:rPr>
              <a:t>Smanjuje se učešće stanovnika od 0 do 14 godina i to sa 23,2% (1991.) na 15,7% (2002.), dok se učešće stanovništva starijeg od 50 godina i dalje poveća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U Republici Srbiji prirodni priraštaj se kreće po stopi od 11,5 do 15,6 u 1950. godini, a prelazi u negativan priraštaj u 1992. godini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Poslednjih godina negativan prirodni priraštaj se nastavlj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U periodu od 1950. do 2002. opšta stopa fertiliteta u Republici Srbiji je smanjena na upola manje vrednosti (sa 109 na 47,4 na 1000 žena generativnog perioda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I dok fertilitet konstantno opada, procenjuje se, na osnovu nepotpunih podataka, da je stopa abortusa na 1000 žena generativnog perioda vrlo visok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Mladih ljudi, kao populacione grupe uzrasta od 10 do navršenih 24 godina života, 2002. godine bilo je u Republici Srbiji (bez podataka za AP Kosovo i Metohija) 1.447.910, sa udelom od 19,31% u ukupnom broju stanovnik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1311"/>
                </a:solidFill>
                <a:latin typeface="Arial"/>
              </a:rPr>
              <a:t>U Republici Srbiji, procenat nepismenih u uzrastu od 10 do 19 godina je u 1991. godini iznosio 0,6%, a u 2002. godini 0,75%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1311"/>
                </a:solidFill>
                <a:latin typeface="Arial"/>
              </a:rPr>
              <a:t>Mladi se nalaze u kategoriji sa nadprosečnim rizikom siromaštva (12,7% ove starosne grupacije je siromašno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1311"/>
                </a:solidFill>
                <a:latin typeface="Arial"/>
              </a:rPr>
              <a:t>Njihov relativni rizik za siromaštvo je za 20% veći u odnosu na prosečnu populaciju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nistarstvo zdravlja je 2003. formirlo Radnu grupu za razvoj I zdravlje mladi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boljšanje zaštite i promocija zdravlja dece i mladi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dan od zadataka je i izrada Strategije razvoja zdravlja mladih u Republici Srbiji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1311"/>
                </a:solidFill>
                <a:latin typeface="Arial"/>
              </a:rPr>
              <a:t>Poslednja decenija 20. veka može se označiti kao period "iznuđene produžene mladosti", zbog koje je više od 2/3 mladih sa sve izraženijim problemima "odliva mozgova", tj. trajnog odlaženja obrazovanih mladih ljudi iz naše zemlj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aliza položaja mladih pokazuje da preko 50% zaposlenih mladih, ili preko 70% nezaposlenih mladih živi sa roditeljim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ećina mladih, oko 75% ocenjuje da se materijalno stanje njihovih porodica znatno pogoršalo tokom 90–tih godina i svrstavaju svoje porodice u kategoriju domaćinstava koja mogu da zadovoljavaju osnovne potrebe - ishrane i odevanj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Proces individualizacije je usporen zbog nedostatka bazičnih resursa: posla, stambenog prostora, novčanih sredstav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Ovakvo stanje se objašnjava i našom kulturom koju karakteriše dominacija porodičnih aktivnih vrednosti i spora tranzicija u odrastanj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OSNOVNE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KARAKTERISTIKE ZDRAVSTVENOG STANJA MLADIH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447560"/>
            <a:ext cx="7386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jnovija istraživanja u Srbiji (UNICEF, SZO, UNFPA) otkrivaju generaciju mladih čije je zdravlje ugroženo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zultati ovih istraživanja ukazuju na to da su vodeći rizici po zdravlje mladih sve veća zloupotreba duvana, alkohola, opojnih droga, visok nivo povreda (saobraćajni traumatizam, zanemarivanja i zlostavljanja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dravstveno stanje mladih karakteriše i loše mentalno zdravlje sa sve višom stopom poremećaja ponašanja, bolesti zavisnosti, depresije i samoubistava, kao i niska stopa kontraceptivne zaštite sa sve većim porastom seksualno prenosivih infekcij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dravstvena kultura stanovništva uopšte je na niskom nivo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ni se obično lekaru obraćaju kada već postoje tegobe koje mogu da ukažu na neki od poremećaj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blem diskriminacije, tabua i predrasuda i dalje je vrlo izražen, pa ukoliko se mlad čovek brine za svoje zdravlje to se najčešće povezuje sa tim da je već bolestan, inficiran i sl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sebni problemi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ladi sa invaliditetom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ebno osetljive, marginalizovane i socijalno ugrožene grupe mladih - u ovu grupaciju se svrstavaju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ladi bez roditeljskog staranja, beskućnici, smešteni u vaspitne ustanove, siromašni, oni koji nisu obuhvaćeni školskim sistemom, pripadnici nacionalnih manjina, verskih zajednica, mladi sa potrebom za posebnom podrškom, izbegla i raseljena lic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ktuelni zdravstveni problemi u populaciji mladih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zvojno-psihološki problemi (oko 1/3 populacije srednjoškolaca i studenata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blemi reproduktivnog zdravlja (faktori rizika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ksualna aktivnost  (Rezultati istraživanja, sprovedenih u 30 mesta u Republici Srbiji među učenicima uzrasta od 11 do 15 godina, su pokazali da je seksualne odnose imalo 22,5% dečaka i 3,5% devojčica)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rudnoća tokom adolescencije (Prema procenama, tokom svake kalendarske godine dogodi se oko 50 trudnoća na 1000 devojaka uzrasta 15 do 19 godina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Holandiji-7, u velikoj Britaniji-28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Strategija za razvoj i zdravlje mladih u Republici Srbiji, kao dokument od nacionalnog značaja, jeste deo strategije razvoja celokupnog zdravstvenog sistema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ksualno prenosive infekci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lesti zavisnost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lostavljanje i zanemarivan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vrede mladih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zička neaktivnos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pravilna ishrana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600" spc="-1" strike="noStrike">
                <a:solidFill>
                  <a:srgbClr val="f7d47d"/>
                </a:solidFill>
                <a:latin typeface="Arial"/>
              </a:rPr>
              <a:t>Faktori iz okruženja koji utiču na razvoj i zdravlje mladih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emećaj ili pad sistema vrednost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blemi u školstvu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ast šovinističkih ispada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blem zapošljavanja mladi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romaštv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dovoljna upućenost roditelja u stvarne otrebe njihove dece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tuđivanje članova porodice,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kari nemaju vremena da se bave preventivnim rad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nepostojanje veština za timski r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RGANIZACIJA SLUŽBI ZA MLAD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movi zdravl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etovališ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spanze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cijalističke služb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ategija obuhvata ciljeve, aktivnosti i očekivane rezultate u unapređenju zdravlja mladih, uključujući i osposobljavanje mladih za brigu o sopstvenom zdravlju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ođe podrazumeva i unapređenje kvaliteta, efikasnosti i dostupnosti zdravstvene zaštite, kao i iznalaženje novih pristupa za postizanje boljeg zdravlja mladih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ljučna opredeljenja Strategije su promocija zdravlja mladih i primarna prevencija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azvoj partnerskih odnosa 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ačanje zakonske regulativ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lavni pravci Strategije su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postavljanje nacionalnih prioriteta u oblasti zdravlja mladih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reiranje aktivnosti u oblasti promocije zdravlja, posebno onih čiji su nosioci mladi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pomeranje težišta aktivnosti sa bolesti na determinante zdravlja i faktore rizika kao uzroke oboljevanja i prevremene smrtnosti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unapređenje i podrška individualnim i kolektivnim zdravim stilovima života, adekvatnim zdravstvenim i socijalnim uslugama i efektivnom korišćenju zdravstvenih službi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razvijanje partnerstva sa mladima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f1311"/>
                </a:solidFill>
                <a:latin typeface="Arial"/>
              </a:rPr>
              <a:t>definisanje indikatora za praćenje determinanti zdravlja i faktora rizika vezanih za zdravlje mladi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EFINICIJA POPULACIJ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ma podacima SZO, adolescentima se podrazumevaju osobe uzrasta od 10 do 19 godi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ladi se grupišu u uzrastu od 15 do 24 godine život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ompleksnu grupaciju mladih osoba u uzrastu od 10 do navršenih 24 godin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skladu sa Zakonom o zdravstvenoj zaštiti Republike Srbije iz 2005. godine, među grupacijama stanovništva "koje su izložene povećanom riziku obolevanja" istaknuti su i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"deca do navršenih 15 godina života, školska deca i studenti do kraja propisanog školovanja, a najkasnije do 26. godine života"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6:11:56Z</dcterms:created>
  <dc:creator>AZURE</dc:creator>
  <dc:description/>
  <dc:language>en-US</dc:language>
  <cp:lastModifiedBy>AZURE</cp:lastModifiedBy>
  <dcterms:modified xsi:type="dcterms:W3CDTF">2011-04-18T03:30:32Z</dcterms:modified>
  <cp:revision>17</cp:revision>
  <dc:subject/>
  <dc:title>Strategija rayvoja mladih u Republici Srbiji</dc:title>
</cp:coreProperties>
</file>